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D04-F3E7-488E-BAE3-FDAE9D80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6C7-A949-4B51-825C-2F29F7C3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EB1-2C43-431B-8DD1-F1F4BD1C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DD0-813A-44EE-A50B-152A50AB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DE1-8A2F-4BDE-AF3F-8493DB20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331-2471-4093-BF68-CEE3A77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EA8-624C-4166-8851-4687CAF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506-C342-4DE3-9E01-9DAF509B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93E-B405-4395-8A94-5CE67DB8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C60-DD15-4D97-B746-B5A2A84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57C-CBF3-4911-98F5-1D9F78E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BDC-AFD2-440C-AEA7-153D3A5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F75-A43F-464D-89B6-14BA0AC6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2A7E-CFD5-4BF0-BCC0-894EFAD3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apple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51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pple Incorporate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51814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ley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5181480"/>
            <a:ext cx="4038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music: Freeplay Music, 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doni MT Black"/>
              </a:rPr>
              <a:t>hic chick,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3/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doni MT Black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doni MT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S Mincho"/>
              </a:rPr>
              <a:t>Inventor: Steve Jobs &amp; Steve Wozni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They created the Apple company in 19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ve Paul Jobs was born on February 24, 1955 in San Francisco, California, but was adopted as an infant and raised in Los Alto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hen Gary Wozniak was born on August 11, 1959 in San Jose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Jobs created the idea and convinced Wozniak to join the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The first Apple software was generated in Jobs’ family garage, in 19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52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Invention: Apple Incorpo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first Apple computer was the “Apple Is,” and it was sold for $6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“Apple Is,” was the first single-board keyboard and also had video inter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In 1977 Jobs and Wozniak introduced the Apple II, which had over 1,500 applications.</a:t>
            </a: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79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e In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Apple computers went public in 1980 and became the most popular computer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Jobs eventually drifted from the company and started a new company called, “NeXT,” and tried to compete with Apple, but failed misera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He sold the “NeXT” software to Apple, and when Jobs returned they created the Mac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307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1371600"/>
            <a:ext cx="8077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' 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303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Jobs and Wozniak"/>
          <p:cNvPicPr/>
          <p:nvPr/>
        </p:nvPicPr>
        <p:blipFill>
          <a:blip r:embed="rId1"/>
          <a:stretch/>
        </p:blipFill>
        <p:spPr>
          <a:xfrm>
            <a:off x="0" y="0"/>
            <a:ext cx="7315200" cy="225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2438280"/>
            <a:ext cx="29718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 Black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doni MT Black"/>
              </a:rPr>
              <a:t>Jobs and Wozniak , </a:t>
            </a:r>
            <a:r>
              <a:rPr b="0" lang="en-US" sz="1800" spc="-1" strike="noStrike">
                <a:solidFill>
                  <a:srgbClr val="ffffff"/>
                </a:solidFill>
                <a:latin typeface="Bodoni MT Black"/>
              </a:rPr>
              <a:t>2/2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doni MT Black"/>
                <a:hlinkClick r:id="rId2"/>
              </a:rPr>
              <a:t>http://web.mit.edu/invent/iow/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2390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17Z</dcterms:created>
  <dc:creator>install</dc:creator>
  <dc:description/>
  <dc:language>en-US</dc:language>
  <cp:lastModifiedBy>install</cp:lastModifiedBy>
  <dcterms:modified xsi:type="dcterms:W3CDTF">2011-03-11T18:31:00Z</dcterms:modified>
  <cp:revision>30</cp:revision>
  <dc:subject/>
  <dc:title>Slide 1</dc:title>
</cp:coreProperties>
</file>